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ing with Grief and L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95280" y="297144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u Ann Hamilton,MSW, LCSW,  Counse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 of the Dean of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hleman H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rdu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Loss, Grief, and Bereavem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Types of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o Expect when Grie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 feelings and how long grief l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ping skills and when/where to get help and how to help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028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Types of Lo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th of Parent, Grandparent, Sibling, Partner, Ch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th of Close Fri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ath of Roommate, Classmate, Collea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/Breakup of Relatio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s of Friend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ous Illness in Self or 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o Expect When you are Grie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ck, Anger, Denial, Bargaining, Acceptance, De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ysical Symp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eeplessness; sadness; decreased appetite; tearfulness; fatigue; upset stomach; anxiety; dreams/nightmares; lack of concen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e these feelings normal, and how long do they las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f these symptoms are normal, although not every person will have every sympto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ereavement period varies from person to person according to each situation and your unique relationship to that per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ef may be brief, or last many years, but generally is at least one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ping Skills to Help yoursel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Othe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se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king/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ing Gri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ing others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care of Self Physically (rest well, eat and limit alcohol u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nowledge Pain, Allow T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10663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to Get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feel you can’t handle this al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are losing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grades, work, and/or social life are suff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have repeated thoughts of death or dy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feel the need to talk and you think your friends are tired of 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026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Get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ends/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seling through The Office of the Dean of Students 494-12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seling and Psychological Services 494-6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seling and Guidance Center 494-97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ritual Leader, Priest, Mini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526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ic Ways to Help Others Cope with Los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k if they want to talk about their loss. (only if you are willing to lis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sit with them, you don’t have to say anything to comfort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them to cry and be s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minimize their feel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you care by words AND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p with practical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5:55:44Z</dcterms:created>
  <dc:creator>Trial User</dc:creator>
  <dc:description/>
  <dc:language>en-US</dc:language>
  <cp:lastModifiedBy>Purdue University</cp:lastModifiedBy>
  <dcterms:modified xsi:type="dcterms:W3CDTF">2004-10-15T14:08:38Z</dcterms:modified>
  <cp:revision>4</cp:revision>
  <dc:subject/>
  <dc:title>PowerPoint Presentation</dc:title>
</cp:coreProperties>
</file>